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CAC1B-A9BE-4FE3-B1A2-768B2FC63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3A7E-74BC-42A4-9E6F-C46871A6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B8FA-D861-41E7-ADAD-12B857A54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DE443-FFDE-4669-BC92-3EA8DD7C1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8C535-7948-4C60-931E-793E7D4F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0E83-1CB1-4723-83C8-9849118B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DFC1-EDE5-439D-B6EF-22F90CE4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ADF82-E825-45FF-AD75-FCFF5964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0998-D4BA-469E-9D09-A5F80D78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28B95-1CFE-43AE-BCF8-293E3AEB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6BCC-9033-4827-BBC3-62143E30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AC02-99E9-47DB-B02C-5F174EF07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5524-4F50-4091-8B92-7C1FAB2C4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060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140360" y="3860280"/>
            <a:ext cx="4844880" cy="279900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601"/>
              </a:spcBef>
              <a:buClr>
                <a:srgbClr val="000066"/>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Franklin Gothic Heavy"/>
              </a:rPr>
              <a:t>1937ko maiatzaren 21an 3861 neska-mutil 5tik-14 urteetaraino, eta berrehun baino gehiagoko nagusiekin batera, Santurtzitik Ingalaterrara ebakuatutak izan zi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68"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46"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49"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219280" y="1341000"/>
            <a:ext cx="374652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Arial"/>
              </a:rPr>
              <a:t> </a:t>
            </a:r>
            <a:r>
              <a:rPr b="0" lang="es-ES" sz="1600" spc="-1" strike="noStrike">
                <a:solidFill>
                  <a:srgbClr val="000000"/>
                </a:solidFill>
                <a:latin typeface="Arial"/>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i="1" lang="es-ES" sz="1600" spc="-1" strike="noStrike">
                <a:solidFill>
                  <a:srgbClr val="000000"/>
                </a:solidFill>
                <a:latin typeface="Arial"/>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rra zibila</a:t>
            </a:r>
            <a:r>
              <a:rPr b="0" lang="es-ES" sz="2400" spc="-1" strike="noStrike">
                <a:solidFill>
                  <a:srgbClr val="0000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54"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56"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59"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1" name="" descr=""/>
          <p:cNvPicPr/>
          <p:nvPr/>
        </p:nvPicPr>
        <p:blipFill>
          <a:blip r:embed="rId1"/>
          <a:stretch/>
        </p:blipFill>
        <p:spPr>
          <a:xfrm>
            <a:off x="250920" y="2060640"/>
            <a:ext cx="3457440" cy="1900080"/>
          </a:xfrm>
          <a:prstGeom prst="rect">
            <a:avLst/>
          </a:prstGeom>
          <a:ln w="0">
            <a:noFill/>
          </a:ln>
        </p:spPr>
      </p:pic>
      <p:sp>
        <p:nvSpPr>
          <p:cNvPr id="62"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63" name="" descr=""/>
          <p:cNvPicPr/>
          <p:nvPr/>
        </p:nvPicPr>
        <p:blipFill>
          <a:blip r:embed="rId2"/>
          <a:stretch/>
        </p:blipFill>
        <p:spPr>
          <a:xfrm>
            <a:off x="171360" y="4245120"/>
            <a:ext cx="3176640" cy="2117520"/>
          </a:xfrm>
          <a:prstGeom prst="rect">
            <a:avLst/>
          </a:prstGeom>
          <a:ln w="0">
            <a:noFill/>
          </a:ln>
        </p:spPr>
      </p:pic>
      <p:sp>
        <p:nvSpPr>
          <p:cNvPr id="64"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40:54Z</dcterms:modified>
  <cp:revision>5</cp:revision>
  <dc:subject/>
  <dc:title>Diapositiva 1</dc:title>
</cp:coreProperties>
</file>